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s-MY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02D093-ED32-4746-B764-1957EC961A12}" type="slidenum">
              <a:rPr b="0" lang="ms-MY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Ei. ARB are more expensive and no evidence that ARB is superior than ACE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fer to recommendation 6 page 13 of CKD CP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3CE2F3-55A2-4767-980B-FE8A61E2FE22}" type="slidenum">
              <a:rPr b="0" lang="ms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4F82-2B85-4118-B32C-79A18D40A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C22D-12B6-4758-B10B-86822D3D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6A16-980C-40EE-94C2-42BA93B37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980F-C3ED-464E-A246-3CAE132AF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0295-9A77-4ACA-8D01-342F31319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5D85-7DC2-469F-8088-EB303A73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7FE7-A64B-41A2-BA5F-60E9768F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A0F9-9094-468D-AB9C-6749ABBE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12CE-DB3D-45A9-B8BA-258D560A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ABB7-6CED-45AA-AEA3-4B577F77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44A3-A1F6-4F3E-85B2-413E3AB9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2FB5-A138-43B8-A368-01E04E38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1DF7-B0EF-4629-B7B5-1C480596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C7F2-825C-463C-9DA5-E0CCDA4B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C3DC-0148-42BF-A024-3E9DBFA0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EC97-867E-4CB5-AAB2-7C33E9995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0294-F524-498F-9361-63DF98FC3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A278A-72DC-43E6-9158-A353E296B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3EF50-37B6-4FC6-B9B3-06A8594E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02333-C739-4C62-BD35-6B5240F0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2443F-5205-43D4-99EE-C8F80B40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62738-882C-4E46-8699-B5263E3E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0CF8-8082-4EDF-A178-E8CA9170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5164C-9A69-4A46-B20E-4BBA6321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30138-A28B-4B7B-ABCD-85124C67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E58CD-B8AD-47CA-B26C-2085C0D2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FB286-54E3-4E47-AB62-F100CCD7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20754-B86A-4780-AE95-B89B4A88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8252C-84B0-4123-A7ED-C7F5BA25E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FB326-D0BB-4DC6-92BD-9D26E8DA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05343-CA4D-4348-81B6-ADEFA73A6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92119-7F9A-48B1-8C65-46F497EB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1C6FD-8A00-4128-BA28-85B5ED50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A953-43F0-4B41-86A6-FC25596B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DA94A-31FA-485A-B43A-86BB5316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4290E-DBDD-47CC-BEAE-96878E47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E2176-478C-43DB-88FA-E4A88D35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0C60C-905A-45F6-B8F9-F59B1546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43A20-4DB4-4B52-ADAB-7FCDE017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195B8-6ED8-4F4C-A507-010A2586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C6925-7902-404C-A547-9E63EE9E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D1DDC-09C0-40B7-A2A6-5D24919EC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C7EE5-67CC-4599-AFCD-A4F5C61B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E0513-D45F-4971-B2D4-7CC032DBD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A56D-5D8F-41B8-B542-201DD732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7606B-B14B-447B-B66B-E989DD09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33719-BD90-42E0-9C6B-71B33D15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E4481-00BA-4393-9663-F555F259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17D9C-7E2A-40E2-8DBB-3E82D6ED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2F7AB-3ED9-437C-858B-0A3F5393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AD8AB-4329-4D1A-B3C3-92946DBB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3265F-07C6-438A-B211-51BF46E2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5FAA2-BCAD-47AA-AF3E-060EBA0C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8FD3D-BF75-4E35-966B-6370B81D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579E5-F199-40E8-B0C9-5E0D3D307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FF26-9E11-432D-90F2-E6205779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EB2EC-A55E-4C3D-85B6-B1B05F951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026AF-E1BE-4A9A-8406-DBBFFA176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82D4E-DE6C-45AC-93D7-77E3643D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820FF-3A1F-4FA8-8293-8B9B004A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7DBFB-92B0-42D6-9454-205DA137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9BACF-9B3A-4AF1-8152-2CF2E5B8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F8FFE-08A2-4D12-916B-90E36132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67082-29F6-478E-9455-4B58A162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114A6-2832-43EE-ACE7-42760279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49E18-9A6C-4351-A87F-BE33367E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E6F1-3746-4A5C-AB58-CF390C22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8918B-AE7B-4353-99FB-4AA4296F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9EF23-DBE0-4A68-BD0C-E6E4355EA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94989-48ED-4EB6-9E07-FC4DDD1B3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4AFDB-B543-48BB-B894-258593C81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D2329-1244-4386-B676-EB25B0D9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23E19-6F5D-4B71-903A-602D1370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153CA-3D81-4482-8A03-00DF182D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545A1-A751-4E1A-8618-23B33583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835F6-9DEC-4561-B489-D83F54DA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942CC-F524-4EFB-B261-C2EB6179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4AE5-ED25-4224-BA2B-5069FD5F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CB352-CD4D-4909-AAAB-FDF0F015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DD357-4D66-4E1A-BA40-3D5ECB43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33E6F-967D-4516-89BB-E4337D41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89789-2342-4D4B-AAD8-80CE7D899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C5CD0-7880-4AE8-97DE-CA031CD4E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F78B-5278-4A7A-B18F-D2D928BD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2F4632-5DB5-4E59-88B1-C191FC67B5B6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525138-3059-4BAA-8C98-11A7B3CF5568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4ABF62-8D38-496C-AC1C-DFB4575A4AE8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65EBD9-A4DD-45E6-9795-0D838A589604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E7A51D-B7BE-4223-B3EC-F065C1C0376B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88C8E5-E799-46AC-94C1-2F61C4100592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999977-AE22-4259-B731-6D83E40941CB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01F330-5920-46C4-81B9-D4F9882FDD88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265452-27F8-4681-9E90-7997F725D2B2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47EF2D-9F9B-4D61-8D34-D494130EA16E}" type="slidenum">
              <a:rPr b="0" lang="ms-MY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906F50-E1E6-47FF-831E-DB9BBB434D8D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F3C545-0E9E-44E9-BB19-18B2A78CAF41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8DF238-6A9A-40F1-A5A4-88FB3CAB3584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756D69-E6E6-43C6-8367-FAA89894027A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942480"/>
            <a:ext cx="7543800" cy="356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 Light"/>
              </a:rPr>
              <a:t>CASE DISCUSSION 2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825120" y="4456080"/>
            <a:ext cx="7543800" cy="17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000000"/>
                </a:solidFill>
                <a:latin typeface="Calibri Light"/>
              </a:rPr>
              <a:t>DR. SUNITA BAVANANDAN, HOSPITAL KUALA LUMPUR, K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000000"/>
                </a:solidFill>
                <a:latin typeface="Calibri Light"/>
              </a:rPr>
              <a:t>A/P DR. LIM SOO KUN, PUSAT PERUBATAN UNIVERSITI MALAYA, K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000000"/>
                </a:solidFill>
                <a:latin typeface="Calibri Light"/>
              </a:rPr>
              <a:t>DR. ANG HOCK AUN, BAGAN SPECIALIST CENTRE, PULAU PINA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7596360" y="27000"/>
            <a:ext cx="1512720" cy="2322360"/>
          </a:xfrm>
          <a:prstGeom prst="rect">
            <a:avLst/>
          </a:prstGeom>
          <a:ln w="0">
            <a:noFill/>
          </a:ln>
        </p:spPr>
      </p:pic>
      <p:sp>
        <p:nvSpPr>
          <p:cNvPr id="314" name="Slide Number Placeholder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B012AF-42C9-4FE1-905E-FBC05968FBC7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Question 3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21880" y="1773360"/>
            <a:ext cx="754380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a1abd0"/>
                </a:solidFill>
                <a:latin typeface="Calibri"/>
              </a:rPr>
              <a:t>What is this patient’s renal status and prognosis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BP target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000000"/>
                </a:solidFill>
                <a:latin typeface="Calibri"/>
              </a:rPr>
              <a:t>What is the best drug to lower his blood pressure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Should his albuminuria be reduced with additional treatm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HbA1c target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How would you optimise his glycaemic control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Should he be on aspirin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0B1C6A-F770-4158-8325-30D06D60F3C0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3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uretic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ta-blocker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Ei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RB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DHP CCB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HP CCB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rect renin receptor inhibitor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DF95AF-861E-418A-AF05-CF1B9FB0A2F7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3 (cont.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tihypertensive agent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initial ag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additional agen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EDF4EF-4A0B-4AF7-9D26-645FD2B77907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Content Placeholder 1" descr=""/>
          <p:cNvPicPr/>
          <p:nvPr/>
        </p:nvPicPr>
        <p:blipFill>
          <a:blip r:embed="rId1"/>
          <a:stretch/>
        </p:blipFill>
        <p:spPr>
          <a:xfrm>
            <a:off x="1193760" y="1862280"/>
            <a:ext cx="6834240" cy="44463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2"/>
          <p:cNvSpPr/>
          <p:nvPr/>
        </p:nvSpPr>
        <p:spPr>
          <a:xfrm>
            <a:off x="7583400" y="2492280"/>
            <a:ext cx="113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alibri"/>
              </a:rPr>
              <a:t>Losart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alibri"/>
              </a:rPr>
              <a:t>Irbesart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alibri"/>
              </a:rPr>
              <a:t>Valsart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alibri"/>
              </a:rPr>
              <a:t>Telmisart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Box 5"/>
          <p:cNvSpPr/>
          <p:nvPr/>
        </p:nvSpPr>
        <p:spPr>
          <a:xfrm>
            <a:off x="5398920" y="4597560"/>
            <a:ext cx="1405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alibri"/>
              </a:rPr>
              <a:t>Perindopri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alibri"/>
              </a:rPr>
              <a:t>Enalapri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alibri"/>
              </a:rPr>
              <a:t>Ramipri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alibri"/>
              </a:rPr>
              <a:t>Captopri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Box 6"/>
          <p:cNvSpPr/>
          <p:nvPr/>
        </p:nvSpPr>
        <p:spPr>
          <a:xfrm>
            <a:off x="7559640" y="4057560"/>
            <a:ext cx="112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Amlodip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Felodip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7"/>
          <p:cNvSpPr/>
          <p:nvPr/>
        </p:nvSpPr>
        <p:spPr>
          <a:xfrm>
            <a:off x="684360" y="2460600"/>
            <a:ext cx="1020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Atenolo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Metoprolo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Bisoprolo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Carvedilo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Box 8"/>
          <p:cNvSpPr/>
          <p:nvPr/>
        </p:nvSpPr>
        <p:spPr>
          <a:xfrm>
            <a:off x="642960" y="3914640"/>
            <a:ext cx="1120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Prazos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Terazos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Moxonid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Minoxidi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Box 9"/>
          <p:cNvSpPr/>
          <p:nvPr/>
        </p:nvSpPr>
        <p:spPr>
          <a:xfrm>
            <a:off x="5398920" y="1898640"/>
            <a:ext cx="14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H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Indapamid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8A2ED6-F66A-4266-B963-2811000B9A3C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55640" y="287280"/>
            <a:ext cx="771048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3 (cont.) </a:t>
            </a:r>
            <a:br>
              <a:rPr sz="4800"/>
            </a:b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Different classes of antiHP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3 (cont.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0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C417FC-9C2F-4A53-957F-9283D5F53A30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3" descr=""/>
          <p:cNvPicPr/>
          <p:nvPr/>
        </p:nvPicPr>
        <p:blipFill>
          <a:blip r:embed="rId1"/>
          <a:stretch/>
        </p:blipFill>
        <p:spPr>
          <a:xfrm>
            <a:off x="790560" y="1800360"/>
            <a:ext cx="7726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Question 4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21880" y="1773360"/>
            <a:ext cx="754380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a1abd0"/>
                </a:solidFill>
                <a:latin typeface="Calibri"/>
              </a:rPr>
              <a:t>What is this patient’s renal status and prognosis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BP target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best drug to lower his blood pressure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000000"/>
                </a:solidFill>
                <a:latin typeface="Calibri"/>
              </a:rPr>
              <a:t>Should his albuminuria be reduced with additional treatm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HbA1c target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How would you optimise his glycaemic control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Should he be on aspirin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879D7A-B8F2-474F-A2BE-EBB9BF482B0E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4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teinuria is an independent predictor for renal disease progression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agnitude of baseline proteinuria has a linear relationship with progression of CKD &amp; risk of CV events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Ei/ARB remain as the main agents that confer significant proteinuria reduction that lead to renoprotection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ts e.g. non-dihydropyridine CCBs, vitamin D analogues, pentoxifylline, etc. also have proteinuria reduction effect but do not confer significant renoprotection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A616FC-D46A-44B0-B7DD-0CEA10850F95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4 (cont.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dditional treatment for proteinuria reduction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Dietary protein restrictio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Good glycaemic contro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E2C39F-3F5A-4AA8-9C97-B17C1AC9B190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4 (cont.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821880" y="3573000"/>
            <a:ext cx="7543800" cy="2295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Dietary protein restriction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roteinuria is an independent CV risk factor and an independent predictor for renal disease progression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rotein restriction is one of the supportive measures to delay CKD progression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181FC9-9631-44A3-B7F5-6215F5387BD5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" name="Picture 6" descr=""/>
          <p:cNvPicPr/>
          <p:nvPr/>
        </p:nvPicPr>
        <p:blipFill>
          <a:blip r:embed="rId1"/>
          <a:stretch/>
        </p:blipFill>
        <p:spPr>
          <a:xfrm>
            <a:off x="696960" y="1916280"/>
            <a:ext cx="79074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Question 5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821880" y="1773360"/>
            <a:ext cx="754380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a1abd0"/>
                </a:solidFill>
                <a:latin typeface="Calibri"/>
              </a:rPr>
              <a:t>What is this patient’s renal status and prognosis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BP target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best drug to lower his blood pressure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Should his albuminuria be reduced with additional treatm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000000"/>
                </a:solidFill>
                <a:latin typeface="Calibri"/>
              </a:rPr>
              <a:t>What is the HbA1c target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How would you optimise his glycaemic control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Should he be on aspirin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9E1760-9EC0-4371-B502-E33692F9887D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Case study: Diabetic CKD with albuminuri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S.M. is a 56-year-old man with T2DM which was first diagnosed 3 years ago. Other medical problems include obesity and dyslipidaemia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He denies smoking. He has no CVD and is asymptomatic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His medications: metformin 1 g BD and atorvastatin 40 mg nocte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F00EA9-C29E-4A5D-9876-51F11FD8600D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5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68000" y="3213000"/>
            <a:ext cx="8209080" cy="295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Glycaemic control for renoprotectio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Optimal glycaemic control should be attained to reduce the complications of diabetes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Aggressive glycaemic control in patients with established CVD may increase the risks of hypoglycaemia and death due to impaired drug metabolism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Regular blood glucose measurements are advised for more accurate assessment of diabetic control as HbA1c maybe falsely low in CKD due to anaemia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D0F621-DB53-4EBE-BE8D-FCF4A4C1ACEF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1" name="Picture 5" descr=""/>
          <p:cNvPicPr/>
          <p:nvPr/>
        </p:nvPicPr>
        <p:blipFill>
          <a:blip r:embed="rId1"/>
          <a:stretch/>
        </p:blipFill>
        <p:spPr>
          <a:xfrm>
            <a:off x="763560" y="1846440"/>
            <a:ext cx="7747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Question 6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821880" y="1773360"/>
            <a:ext cx="754380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a1abd0"/>
                </a:solidFill>
                <a:latin typeface="Calibri"/>
              </a:rPr>
              <a:t>What is this patient’s renal status and prognosis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BP target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best drug to lower his blood pressure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Should his albuminuria be reduced with additional treatm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HbA1c target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000000"/>
                </a:solidFill>
                <a:latin typeface="Calibri"/>
              </a:rPr>
              <a:t>How would you optimise his glycaemic control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Should he be on aspirin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FD87A5-50D5-4B18-BB5B-FA88D4B35E75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6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Few common anti-diabetes drug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Sodium-glucose co-transporter-2 (SGLT-2) inhibitor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otential agen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Recent trials (EMPA-REG, CANVAS/CANVAS-R) on SGLT-2 inhibitors have been shown to improve CV outcomes and may have renoprotective effect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Avoid if eGFR </a:t>
            </a:r>
            <a:r>
              <a:rPr b="0" lang="en-MY" sz="2400" spc="-1" strike="noStrike">
                <a:solidFill>
                  <a:srgbClr val="ff0000"/>
                </a:solidFill>
                <a:latin typeface="Calibri"/>
              </a:rPr>
              <a:t>&lt;45 ml/min 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due to reduced efficacy in lowering HbA1c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35AC2E-08A6-444E-9385-015BEBD31394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6 (cont.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Metformin - avoid if eGFR &lt;30 ml/min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Dipeptidyl peptidase-4 (DPP-4) inhibitors - dose reduction in CKD for sitagliptin, vildagliptin, saxagliptin. No dose adjustment for linagliptin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Sulphonylureas - gliclazide, avoid long-acting glibenclamid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Insulin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4865D8-C5CC-4212-BF44-B55FFA898A32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22240" y="189000"/>
            <a:ext cx="78105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 Light"/>
              </a:rPr>
              <a:t>Answer 6 (cont.) - Suggested Treatment Approach for Specific Patient Profiles (Malaysian CPG on T2DM 2016)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98914D-968D-43CB-B3D5-3AEEFFAD2484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722160" y="1125360"/>
            <a:ext cx="7810560" cy="538992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: Rounded Corners 9"/>
          <p:cNvSpPr/>
          <p:nvPr/>
        </p:nvSpPr>
        <p:spPr>
          <a:xfrm>
            <a:off x="6837480" y="1125360"/>
            <a:ext cx="1550880" cy="4032360"/>
          </a:xfrm>
          <a:custGeom>
            <a:avLst/>
            <a:gdLst>
              <a:gd name="textAreaLeft" fmla="*/ 75600 w 1550880"/>
              <a:gd name="textAreaRight" fmla="*/ 1475280 w 1550880"/>
              <a:gd name="textAreaTop" fmla="*/ 75600 h 4032360"/>
              <a:gd name="textAreaBottom" fmla="*/ 3956760 h 4032360"/>
            </a:gdLst>
            <a:ahLst/>
            <a:rect l="textAreaLeft" t="textAreaTop" r="textAreaRight" b="textAreaBottom"/>
            <a:pathLst>
              <a:path w="21600" h="56153">
                <a:moveTo>
                  <a:pt x="3600" y="0"/>
                </a:moveTo>
                <a:arcTo wR="3600" hR="3600" stAng="16200000" swAng="-5400000"/>
                <a:lnTo>
                  <a:pt x="0" y="52553"/>
                </a:lnTo>
                <a:arcTo wR="3600" hR="3600" stAng="10800000" swAng="-5400000"/>
                <a:lnTo>
                  <a:pt x="18000" y="561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Question 7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821880" y="1773360"/>
            <a:ext cx="754380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a1abd0"/>
                </a:solidFill>
                <a:latin typeface="Calibri"/>
              </a:rPr>
              <a:t>What is this patient’s renal status and prognosis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BP target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best drug to lower his blood pressure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Should his albuminuria be reduced with additional treatm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HbA1c target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How would you optimise his glycaemic control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000000"/>
                </a:solidFill>
                <a:latin typeface="Calibri"/>
              </a:rPr>
              <a:t>Should he be on aspirin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AF7BA5-BBEE-4A31-B17B-F3C3C71309E6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7 - Reduction of CV risk in CK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8557AA-5E2A-4191-B900-B570E140D9F9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0" name="Picture 7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82080" cy="12952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8" descr=""/>
          <p:cNvPicPr/>
          <p:nvPr/>
        </p:nvPicPr>
        <p:blipFill>
          <a:blip r:embed="rId2"/>
          <a:stretch/>
        </p:blipFill>
        <p:spPr>
          <a:xfrm>
            <a:off x="539640" y="3772080"/>
            <a:ext cx="818208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8000" spc="-1" strike="noStrike">
                <a:solidFill>
                  <a:srgbClr val="000000"/>
                </a:solidFill>
                <a:latin typeface="Calibri Light"/>
              </a:rPr>
              <a:t>Thank you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F346E8-8E7D-4C9B-AF21-642693BBB778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4" name="Picture 3" descr=""/>
          <p:cNvPicPr/>
          <p:nvPr/>
        </p:nvPicPr>
        <p:blipFill>
          <a:blip r:embed="rId1"/>
          <a:stretch/>
        </p:blipFill>
        <p:spPr>
          <a:xfrm>
            <a:off x="7596360" y="27000"/>
            <a:ext cx="151272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Case study: Diabetic CKD with albuminuria</a:t>
            </a:r>
            <a:r>
              <a:rPr b="1" lang="en-MY" sz="2000" spc="-1" strike="noStrike">
                <a:solidFill>
                  <a:srgbClr val="000000"/>
                </a:solidFill>
                <a:latin typeface="Calibri Light"/>
              </a:rPr>
              <a:t>-2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822240" y="1712880"/>
            <a:ext cx="77104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Physical examination reveals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732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height 167 cm, weight 79 kg, BMI of 28.3 kg/m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732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BP 160/100 mmHg and a regular heart rate of 76/mi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732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no retinopathy or neuropathy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Laboratory tests reveal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732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roteinuria on urinalysi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732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serum creatinine 104 µmol/L and eGFR 64 mL/min/1.73m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732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normal electrolyte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732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random blood glucose 10 mmol/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732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HbA1c 8.8%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732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urine albumin-creatinine-ratio 56 mg/mmo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1E9473-4AA4-4025-A779-0658A3B06C8A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Ques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821880" y="1773360"/>
            <a:ext cx="754380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What is this patient’s renal status and prognosis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What is the BP target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What is the best drug to lower his blood pressure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Should his albuminuria be reduced with additional treatm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What is the HbA1c target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How would you optimise his glycaemic control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Should he be on aspirin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97CCA9-CA62-4578-B78B-AC6D97887AEC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Question 1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826920" y="1773360"/>
            <a:ext cx="768384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000000"/>
                </a:solidFill>
                <a:latin typeface="Calibri"/>
              </a:rPr>
              <a:t>What is this patient’s renal status and prognosis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BP target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best drug to lower his blood pressure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Should his albuminuria be reduced with additional treatm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HbA1c target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How would you optimise his glycaemic control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Should he be on aspirin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11E503-F547-4681-A137-5C602F6B7B4B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1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D9BDBC-E6C5-40EC-9490-5904868739EF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Picture 5" descr=""/>
          <p:cNvPicPr/>
          <p:nvPr/>
        </p:nvPicPr>
        <p:blipFill>
          <a:blip r:embed="rId1"/>
          <a:stretch/>
        </p:blipFill>
        <p:spPr>
          <a:xfrm>
            <a:off x="955800" y="1844640"/>
            <a:ext cx="723240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1 (cont.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92E0D1-95D7-497D-82DB-9FBD73D76166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5" descr=""/>
          <p:cNvPicPr/>
          <p:nvPr/>
        </p:nvPicPr>
        <p:blipFill>
          <a:blip r:embed="rId1"/>
          <a:stretch/>
        </p:blipFill>
        <p:spPr>
          <a:xfrm>
            <a:off x="955800" y="1844640"/>
            <a:ext cx="7232400" cy="465444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: Rounded Corners 1"/>
          <p:cNvSpPr/>
          <p:nvPr/>
        </p:nvSpPr>
        <p:spPr>
          <a:xfrm>
            <a:off x="6835680" y="2755800"/>
            <a:ext cx="1239840" cy="2016360"/>
          </a:xfrm>
          <a:custGeom>
            <a:avLst/>
            <a:gdLst>
              <a:gd name="textAreaLeft" fmla="*/ 60480 w 1239840"/>
              <a:gd name="textAreaRight" fmla="*/ 1179360 w 1239840"/>
              <a:gd name="textAreaTop" fmla="*/ 60480 h 2016360"/>
              <a:gd name="textAreaBottom" fmla="*/ 1955880 h 2016360"/>
            </a:gdLst>
            <a:ahLst/>
            <a:rect l="textAreaLeft" t="textAreaTop" r="textAreaRight" b="textAreaBottom"/>
            <a:pathLst>
              <a:path w="21600" h="35124">
                <a:moveTo>
                  <a:pt x="3600" y="0"/>
                </a:moveTo>
                <a:arcTo wR="3600" hR="3600" stAng="16200000" swAng="-5400000"/>
                <a:lnTo>
                  <a:pt x="0" y="31524"/>
                </a:lnTo>
                <a:arcTo wR="3600" hR="3600" stAng="10800000" swAng="-5400000"/>
                <a:lnTo>
                  <a:pt x="18000" y="351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: Rounded Corners 2"/>
          <p:cNvSpPr/>
          <p:nvPr/>
        </p:nvSpPr>
        <p:spPr>
          <a:xfrm>
            <a:off x="2124000" y="4843440"/>
            <a:ext cx="295272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Question 2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821880" y="1773360"/>
            <a:ext cx="754380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a1abd0"/>
                </a:solidFill>
                <a:latin typeface="Calibri"/>
              </a:rPr>
              <a:t>What is this patient’s renal status and prognosis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000000"/>
                </a:solidFill>
                <a:latin typeface="Calibri"/>
              </a:rPr>
              <a:t>What is the BP target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best drug to lower his blood pressure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Should his albuminuria be reduced with additional treatm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HbA1c target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How would you optimise his glycaemic control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Should he be on aspirin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597608-1BC1-43F8-BA16-7EBB46181E2C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2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9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250C78-47B0-4F7F-830F-9195C6A47472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0" name="Picture 7" descr=""/>
          <p:cNvPicPr/>
          <p:nvPr/>
        </p:nvPicPr>
        <p:blipFill>
          <a:blip r:embed="rId1"/>
          <a:stretch/>
        </p:blipFill>
        <p:spPr>
          <a:xfrm>
            <a:off x="822240" y="1800360"/>
            <a:ext cx="763740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24T09:53:13Z</dcterms:created>
  <dc:creator>user</dc:creator>
  <dc:description/>
  <dc:language>en-US</dc:language>
  <cp:lastModifiedBy>Dr. Mohd. Aminuddin</cp:lastModifiedBy>
  <dcterms:modified xsi:type="dcterms:W3CDTF">2019-05-02T07:09:26Z</dcterms:modified>
  <cp:revision>150</cp:revision>
  <dc:subject/>
  <dc:title>SCREENING &amp; DIAGNOSIS</dc:title>
</cp:coreProperties>
</file>